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F86-0F1B-455F-97D4-AD01A4AAF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designing monitoring and evaluation framework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ying assumptions, goals, and interrelationships among all kinds of factors relevant to the project o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levels of performance and desired results in terms of planned activities and realistic, objective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and evaluation frameworks incorpor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managers’ assumptions and objectives, in a given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chematic design displaying the directional linkages between key program elements and/or planned results, and other releva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1EAD-2899-4C81-B2D9-80952AC3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574640" y="228600"/>
            <a:ext cx="3557880" cy="2668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22240" y="3077640"/>
            <a:ext cx="52308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puts are necessary to create processes, which drive the production of outputs an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generic example of an M&amp;E framework for a national TB program.  This framework shows the linear relationships between inputs, processes, outputs, outcomes, and impact.  It also provides a visual interpretation of the broad context for the NTP, which inclu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syste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-econom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ical context of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we have already seen in the presentation on M&amp;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is to expand on it and create a M&amp;E logical framework that could be used to guide planning, monitoring, and evaluation of the introduction of directly observed therapy as the standard of care for smear positive TB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CEDA-CE0D-4B07-8661-FCC9A24F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403280" y="863640"/>
            <a:ext cx="4054680" cy="3041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2960" y="4203720"/>
            <a:ext cx="50320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47A4-389E-4092-B256-2BD73DCE8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625760" y="304920"/>
            <a:ext cx="3456000" cy="25923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38080" y="3125520"/>
            <a:ext cx="510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lusions about M&amp;E frameworks </a:t>
            </a:r>
            <a:br>
              <a:rPr sz="1000"/>
            </a:br>
            <a:br>
              <a:rPr sz="10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meworks allow Program Manager to </a:t>
            </a:r>
            <a:br>
              <a:rPr sz="9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cide on what elements to monitor 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- Plan strategically for M&amp;E activities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- Choose appropriate methodology for M&amp;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- Select indicators to monitor and evaluation program implement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6AA-6521-4EEC-84EB-8468C4CC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A00-E705-43DA-8B96-7CC1E194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9D7-D2D1-4D11-B02F-27CFBDF4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6F3-76DE-47DC-8401-3F762289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9AE9-A366-4254-9D3B-E7892934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AB62-8423-4E17-B661-8F7C471A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541F-CD8D-4E1A-884E-9A222059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986A-9E95-4C25-8DD8-73D9CB9B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CB8-F212-432F-875C-FB122E4F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10FC-077C-437D-95C8-1AD0B9B7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EC12-D23A-403C-8C93-3F5BB24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E1A-6434-4CE2-B8EA-B35C7D0A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C6F9-648D-47ED-8C74-4DBC9B0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2B2E-D4FB-41EF-8F61-6B82ECA0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70E-CABB-4614-B669-4183F1C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86E1-A846-49EC-BF9E-53C9AB71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A447-DFC0-4C5E-8E11-A40A00D5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6B8-F867-4011-BF0C-1A4B627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BB4-4D54-4C0F-8422-08FE7A36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E9F-6F97-47F7-AA6F-DC165578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5E5-963E-44BC-8632-1505821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880-F9D9-4520-8414-41C2E63A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C62-1895-4639-B185-D02A580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B87-8238-43E0-B37B-A31C900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38FB-5DC2-4EEF-A630-676DE9645E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066D-46A4-41E9-A88D-44CD2D6C63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nitoring and Evaluation Framewo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2860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hat is a M&amp;E Frame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hy do we use M&amp;E Framework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a3c1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How do we develop M&amp;E Framework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&amp;E Framework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s, pictures or ma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 the factors that drive an 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that illustrate how a progra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houl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relationships  between factors that influence program operation and the successful achievement of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y do we use M&amp;E framework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27524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 and planning t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‘map’ for program’s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ks between resources and activ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 selection of indicators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cc"/>
                </a:solidFill>
                <a:latin typeface="Tahoma"/>
              </a:rPr>
              <a:t>M</a:t>
            </a:r>
            <a:r>
              <a:rPr b="1" lang="en-US" sz="3300" spc="-1" strike="noStrike">
                <a:solidFill>
                  <a:srgbClr val="ffffcc"/>
                </a:solidFill>
                <a:latin typeface="Tahoma"/>
              </a:rPr>
              <a:t>&amp;</a:t>
            </a:r>
            <a:r>
              <a:rPr b="1" lang="en-US" sz="3900" spc="-1" strike="noStrike">
                <a:solidFill>
                  <a:srgbClr val="ffffcc"/>
                </a:solidFill>
                <a:latin typeface="Tahoma"/>
              </a:rPr>
              <a:t>E L</a:t>
            </a:r>
            <a:r>
              <a:rPr b="1" lang="en-US" sz="3300" spc="-1" strike="noStrike">
                <a:solidFill>
                  <a:srgbClr val="ffffcc"/>
                </a:solidFill>
                <a:latin typeface="Tahoma"/>
              </a:rPr>
              <a:t>OGICAL</a:t>
            </a:r>
            <a:r>
              <a:rPr b="1" lang="en-US" sz="3900" spc="-1" strike="noStrike">
                <a:solidFill>
                  <a:srgbClr val="ffffcc"/>
                </a:solidFill>
                <a:latin typeface="Tahoma"/>
              </a:rPr>
              <a:t> F</a:t>
            </a:r>
            <a:r>
              <a:rPr b="1" lang="en-US" sz="3300" spc="-1" strike="noStrike">
                <a:solidFill>
                  <a:srgbClr val="ffffcc"/>
                </a:solidFill>
                <a:latin typeface="Tahoma"/>
              </a:rPr>
              <a:t>RAMEWORKS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gical Framework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al frameworks are diagrams that identify and illustrate the relationships between program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puts,  Processes,  Outputs, and Outcome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urpos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linear interpretation of planned use of resources and desired 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fies project/program assumptions about linear relationships between key factors relevant to desired 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28600" y="1219320"/>
            <a:ext cx="1447920" cy="267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nical and managerial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borat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1219320"/>
            <a:ext cx="1752480" cy="309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TP – mgt /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oc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ining of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rveillanc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1219320"/>
            <a:ext cx="1447560" cy="295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agnostic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eatment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duced Stig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1219320"/>
            <a:ext cx="1828800" cy="171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se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se trea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se ho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1219320"/>
            <a:ext cx="1447920" cy="171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B inf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B morbid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B mort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4876920"/>
            <a:ext cx="8381880" cy="157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litical commitment     Health system        Socio-economic conditions      Epi-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vailability                                                                                     HIV preval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cess                                                                                             Mal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tilization                                                                                       Alcohol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57200"/>
            <a:ext cx="6934320" cy="459720"/>
          </a:xfrm>
          <a:prstGeom prst="rect">
            <a:avLst/>
          </a:prstGeom>
          <a:solidFill>
            <a:srgbClr val="a81e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&amp;E logical framework for TB program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236232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2362320"/>
            <a:ext cx="152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2362320"/>
            <a:ext cx="152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2920" y="213372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590920" y="4419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62120" y="396252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781680" y="42670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724280" y="42670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8600" y="1828800"/>
            <a:ext cx="1371600" cy="351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Guidelines for 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um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1828800"/>
            <a:ext cx="1670040" cy="318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Training of HC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istribution of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Super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1828800"/>
            <a:ext cx="1798560" cy="404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CWs trained to provide 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rugs available at facili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atients receiving 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Treatment outcomes repor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1828800"/>
            <a:ext cx="1944720" cy="295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mproved cure  and treatment completion 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creased failure and defaul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1640" y="1828800"/>
            <a:ext cx="1692360" cy="23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Arial"/>
              </a:rPr>
              <a:t>IMPAC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Reduced morbidity/ mortality due to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revention of MDR-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228600"/>
            <a:ext cx="82184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83b3"/>
                </a:solidFill>
                <a:latin typeface="Arial"/>
                <a:ea typeface="Arial"/>
              </a:rPr>
              <a:t>Logic Framework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83b3"/>
                </a:solidFill>
                <a:latin typeface="Arial"/>
                <a:ea typeface="Arial"/>
              </a:rPr>
              <a:t>Directly Observed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562360" cy="1104840"/>
          </a:xfrm>
          <a:prstGeom prst="rect">
            <a:avLst/>
          </a:prstGeom>
          <a:solidFill>
            <a:srgbClr val="a81e3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gic Framework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pu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es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put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utcom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mpac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 Level (cohort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 leve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42670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43800" y="42670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763120" y="42670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43800" y="44956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clusion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&amp;E Frameworks allow a program manager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2286000"/>
            <a:ext cx="6705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a3c1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de which program components to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a3c1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M&amp;E activities in a strategic and systematic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a3c1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the appropriate methodology for M&amp;E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a3c1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indicators to monitor and evaluate different program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2:06:50Z</dcterms:created>
  <dc:creator>kmacint</dc:creator>
  <dc:description/>
  <dc:language>en-US</dc:language>
  <cp:lastModifiedBy>Carolina Population Center</cp:lastModifiedBy>
  <cp:lastPrinted>2005-02-21T22:17:27Z</cp:lastPrinted>
  <dcterms:modified xsi:type="dcterms:W3CDTF">2006-11-08T21:27:10Z</dcterms:modified>
  <cp:revision>13</cp:revision>
  <dc:subject/>
  <dc:title>Conceptual Frameworks</dc:title>
</cp:coreProperties>
</file>